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B840-849C-4C29-AB6A-39415E2B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1F47-25EE-486C-A8DD-FB65997C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8664-9B60-426E-AD0A-D2930751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4F81-D876-460E-A789-626333B4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2499-F00A-4AB0-BFA9-83C8DC5A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DD42-01C9-4DC0-A183-D2BDBE4E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3272-7F5A-493E-8455-D2C274E8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C8B0-6BF7-4940-84CC-E966C528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0175-F493-443A-9748-CA4F976D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ED1F-AF29-4BC7-B825-C3983B5F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56F4-7FCB-4A5A-A283-C79472EC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FFB7-C6A1-4143-84F2-1909F3A9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A398-B739-4D7A-982C-9513B0697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 9-2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make connections to tex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is picture remind you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at experience make you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952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these notes in your bind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xt-to-Text conne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you read reminds you of something else you read (book, poem, newspaper, letter), watched (t.v., internet), or maybe heard (radio broadcast, commercial, new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4981680"/>
            <a:ext cx="2438280" cy="1876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781680" y="44197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352680" y="4724280"/>
            <a:ext cx="2714760" cy="1685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134120" y="0"/>
            <a:ext cx="20098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these notes in your bind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xt-to-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you read reminds you of something going on in the worl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62600" y="1371600"/>
            <a:ext cx="2381400" cy="1924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581280" y="3511440"/>
            <a:ext cx="487692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-to-Self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in the text reminds you of a personal experience or the experience of someone you k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these notes in your bind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2392200" cy="3276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819520" y="3733920"/>
            <a:ext cx="3504960" cy="2616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477120" y="3809880"/>
            <a:ext cx="2427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o Is the Dark-Haired On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 model CONNECT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 the students to the front of the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loud, begin reading on page 22, starting with the paragraph beginning with “Papa opened the front door to the soldi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see arrows with orange highlights, stop and tell the kids about the connections I made.  I have included an example of each type of connection.  Write the connections I made on a post-it note and attach it to the CHART PAPER graphic organizer.  For the so what part, have them figure out how the connection helps the reader better understand EITHER a character’s actions, character’s feelings, the main conflict, OR the setting. JUST PICK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reading when you get to page 24.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ct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609480"/>
          <a:ext cx="9144000" cy="6418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ext says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reminds me of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What?  This helped me understand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 you would be so kind as to tell me where the Rosens are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iary of Anne Frank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the Nazi soldiers find the family in hiding.  They were taken to concentration camps and many were kill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much people’s lives changed during this time.  Fear overcame all peop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crumpled it into her hand and closed her fingers tightly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many Jewish people went into hiding and had to hide anything that symbolized their religio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in general hide who they ar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need to look out for their safety first and that we sometimes hide who we are in order to protect ourselv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you have this blonde haired daughter…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 sister often gets asked about her blonde hair because my parents, sister, and I all have dark hair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get their feelings hurt when they are signaled out for differenc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read your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pendent boo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day, fill out this graphic organiz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o be thoughtful about your connection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s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t Five Minu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sk the kids to share their connections with the clas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14:32Z</dcterms:created>
  <dc:creator>Administrator</dc:creator>
  <dc:description/>
  <dc:language>en-US</dc:language>
  <cp:lastModifiedBy>Administrator</cp:lastModifiedBy>
  <dcterms:modified xsi:type="dcterms:W3CDTF">2010-09-15T14:22:45Z</dcterms:modified>
  <cp:revision>8</cp:revision>
  <dc:subject/>
  <dc:title>Do Now 9-21 I can make connections to text.</dc:title>
</cp:coreProperties>
</file>